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19159"/>
        <c:axId val="58661240"/>
      </c:barChart>
      <c:catAx>
        <c:axId val="78319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61240"/>
        <c:crosses val="autoZero"/>
        <c:auto val="1"/>
        <c:lblAlgn val="ctr"/>
        <c:lblOffset val="100"/>
        <c:noMultiLvlLbl val="0"/>
      </c:catAx>
      <c:valAx>
        <c:axId val="58661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19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B74-5375-4879-8C1D-3D5686C4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34A-10C8-42B3-AC27-DD767D8A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C6E-FED0-4445-B40D-9FAA25A8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F0D-13C7-446B-BA10-225DB8BC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247-9F4F-4061-9F02-3440A10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2FB-784B-4918-8BA2-CE1E8700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5A5-A456-416B-BCC8-CA582579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E8F-2D83-4630-BF86-B8D33A21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251-9FDF-4235-98CE-744E9435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04A-9BAD-455C-97A2-6D9CA3B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7FB-CE84-4D46-B76B-9DF98D4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1EC-3D09-410F-AB13-AF7EEF2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7B4D2-F8E5-42E8-ACC0-217B30E3A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