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63248"/>
        <c:axId val="88758107"/>
      </c:barChart>
      <c:catAx>
        <c:axId val="83963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58107"/>
        <c:crosses val="autoZero"/>
        <c:auto val="1"/>
        <c:lblAlgn val="ctr"/>
        <c:lblOffset val="100"/>
        <c:noMultiLvlLbl val="0"/>
      </c:catAx>
      <c:valAx>
        <c:axId val="88758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3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2DE-C1B2-46BB-94ED-82CFC7FB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B24-4F58-4353-9172-822758F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05B-81BF-46E9-B232-827890D6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1D7-DE3C-4DC2-9623-DA5F802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C04-71E0-4E12-860D-C924813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74D-70A3-4728-AE45-836FC3E9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B61-3F66-4308-9CC7-8264C37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60A-2505-49C9-828C-8326EE8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0F4-2F21-44D1-BD94-7652098B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582-9F9F-456F-B92D-A0916102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A8C-E811-4BDB-9B01-BA6B368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2D8-B4FE-4095-9014-80F201B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B2CF6-398B-413B-85FF-19FE02B22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