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26494"/>
        <c:axId val="17639175"/>
      </c:barChart>
      <c:catAx>
        <c:axId val="562264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39175"/>
        <c:crosses val="autoZero"/>
        <c:auto val="1"/>
        <c:lblAlgn val="ctr"/>
        <c:lblOffset val="100"/>
        <c:noMultiLvlLbl val="0"/>
      </c:catAx>
      <c:valAx>
        <c:axId val="176391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264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D021-23C8-4E1F-9955-AFC053D8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4BEC-56F1-4723-8BAD-51620E3C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32BB-EE6A-4553-B019-423E2443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F74C-E4E4-42EE-A202-BC237A4B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C0F8-1E0B-4BF6-AD7F-796A5F69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C056-A37E-4E5A-92E9-B7874BBE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10B5-321D-4349-B2E5-8575DE45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B64D-98F2-41C4-8340-FF7CBF65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5D81-90F7-4B30-810E-9E33A688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37ED-EF3C-47E2-8AD3-B6C6B16B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1568-FF2A-4C95-8345-5C7377E3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04F1-59E7-49AF-94DA-CADCD8DE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80EAC-57B6-43E9-91CB-6A002822A5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