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36881"/>
        <c:axId val="37114114"/>
      </c:barChart>
      <c:catAx>
        <c:axId val="73736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14114"/>
        <c:crosses val="autoZero"/>
        <c:auto val="1"/>
        <c:lblAlgn val="ctr"/>
        <c:lblOffset val="100"/>
        <c:noMultiLvlLbl val="0"/>
      </c:catAx>
      <c:valAx>
        <c:axId val="37114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36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446-3880-4972-BF00-B17A3652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27F-7A13-480D-91BD-F4EB40E5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DE9-B5D7-4EF6-BC5E-9554D57B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4BC-9859-4D23-B9A4-35E64D92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5DE-2BC6-4393-888B-F726F044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9F1-F2CE-459D-AD35-3F47BD48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F41-E190-48DB-85A7-3DBE6976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DDF-6FF4-480A-9B53-7C4A16F2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9CE-B0F6-4DE2-A15B-0FB0B252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612-6EA7-4D4B-B0E9-30CA7ABF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F24-5FC6-4213-9CDF-04B23C84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69E-435F-4D16-966C-642ACBFA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D1926-1B16-4EFE-811C-F9E3C6CDE0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