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95284"/>
        <c:axId val="98723290"/>
      </c:barChart>
      <c:catAx>
        <c:axId val="526952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23290"/>
        <c:crosses val="autoZero"/>
        <c:auto val="1"/>
        <c:lblAlgn val="ctr"/>
        <c:lblOffset val="100"/>
        <c:noMultiLvlLbl val="0"/>
      </c:catAx>
      <c:valAx>
        <c:axId val="98723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952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9D35-7245-4CC3-BB00-F7CD5CC6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AE0E-40B8-42A7-82E8-38177C77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CD5F-3A3C-4473-8326-4434111D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DDE-7C67-4E8A-8396-E00979E1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1BE-A71C-4CC8-96F2-BF93B519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715-E849-487E-BC40-623C690A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F34C-D4B4-4D91-84F0-F7B5171B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F95-D048-40B5-979D-9A7328E0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4AC-E572-4F0F-90CB-E2DD600F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1A4-5660-44CA-AD4D-5CEE3D62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363-3A84-436C-B16E-0D79A6EC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407-B36F-4442-AA2E-98EE7663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3FBF7-BDDC-4ECE-AC07-1F7A582F12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