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04277"/>
        <c:axId val="59267408"/>
      </c:barChart>
      <c:catAx>
        <c:axId val="89104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67408"/>
        <c:crosses val="autoZero"/>
        <c:auto val="1"/>
        <c:lblAlgn val="ctr"/>
        <c:lblOffset val="100"/>
        <c:noMultiLvlLbl val="0"/>
      </c:catAx>
      <c:valAx>
        <c:axId val="592674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04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3645-1873-445B-BA09-E3EAA439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2A9-5B87-4D9B-BDC7-3E004914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E6F3-49A1-4CF7-88A2-750AB952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EF9-400C-4719-ACF5-134EE4B7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0A8C-88EE-4C9A-87C9-07659B57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D61-ED09-487F-A329-64161C8D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848-CAEB-4229-8BD7-11589E19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DFEC-25CC-4D06-BB85-34D81762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3164-7AF4-4C0C-A820-57F52C6A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218-24E5-47FA-B843-897FEB25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4D3-0609-4682-886B-B2F3ED18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37F-56F6-4E15-86FD-6AC9B00A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860F0-96D4-4D3C-BBFE-0D42B4B1D2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