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51494"/>
        <c:axId val="7580771"/>
      </c:barChart>
      <c:catAx>
        <c:axId val="73951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0771"/>
        <c:crosses val="autoZero"/>
        <c:auto val="1"/>
        <c:lblAlgn val="ctr"/>
        <c:lblOffset val="100"/>
        <c:noMultiLvlLbl val="0"/>
      </c:catAx>
      <c:valAx>
        <c:axId val="7580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51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283-C5A7-40FA-BFF4-E3BBC210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841-9693-43DA-9492-9EF1974F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D33-99B8-4FFB-9562-57418FDE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844-4655-4334-9E92-33E58E29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C48-569A-4BC7-8483-BFC28C9A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392-1CDB-4CF1-8C87-B5AE5BF2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7C7-9B8B-42F7-B877-A24E55E8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3EB-4DDE-416A-9B8C-B0565FC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5CA-4382-488E-93CF-2805F31D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257-4F63-4E60-BDA2-B09F35D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DC2-E914-4852-BEE4-2595B4CA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7EB-E735-4575-924C-D672218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70962-7528-4A34-98FC-43A5957C68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