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93712"/>
        <c:axId val="48953585"/>
      </c:barChart>
      <c:catAx>
        <c:axId val="99493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53585"/>
        <c:crosses val="autoZero"/>
        <c:auto val="1"/>
        <c:lblAlgn val="ctr"/>
        <c:lblOffset val="100"/>
        <c:noMultiLvlLbl val="0"/>
      </c:catAx>
      <c:valAx>
        <c:axId val="48953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93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BAB-5FA1-4E7B-B48F-B78D9575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F83-E9BE-4EF3-86A9-696BE946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873-422B-4366-B764-1ABBB554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7E4-7012-49AB-B1DF-9706B357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4A7-3662-4C77-912D-DD5D7652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74C-2DD0-4C68-ABC8-123AAEC6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6F2-9522-4339-A638-2E43EEB2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B93-FB83-4BF9-82C2-6C9363D6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B14-FFE4-4DDA-BE03-4D2B5B35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5A4-BEA9-4959-9A15-B3FBEE45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33C-4D97-4320-B6BC-6E1F6B46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B06-DB5B-4EA5-B776-C8C23B2F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E5246-4B8B-4283-A649-B04978983A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