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303856"/>
        <c:axId val="86366596"/>
      </c:barChart>
      <c:catAx>
        <c:axId val="56303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66596"/>
        <c:crosses val="autoZero"/>
        <c:auto val="1"/>
        <c:lblAlgn val="ctr"/>
        <c:lblOffset val="100"/>
        <c:noMultiLvlLbl val="0"/>
      </c:catAx>
      <c:valAx>
        <c:axId val="86366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03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53A-2B9A-4EF3-B314-A66CE0F9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B24E-FED4-4FA5-BF43-A9DDFA0A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1C2-6D65-48CE-835E-36C3429C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FE0E-011D-4D25-B571-5CE9CB5E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9C7-A408-4999-A4F7-63B0C345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E28F-E136-49F6-96E9-E0AA665F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B1E5-2AA1-49B7-BF73-78D11FA2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A01-CEC2-4800-B186-EE13E51B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785C-E78D-438E-97EC-27923D81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2553-FD22-4258-BEC9-C3BA50D2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54FB-CEE3-42F4-80A2-9DAF551D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FF0-4EDE-41C1-939C-1F34B9B3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AA7F3-085F-4CF3-99DA-E709D248B1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