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61969"/>
        <c:axId val="83461610"/>
      </c:barChart>
      <c:catAx>
        <c:axId val="90261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61610"/>
        <c:crosses val="autoZero"/>
        <c:auto val="1"/>
        <c:lblAlgn val="ctr"/>
        <c:lblOffset val="100"/>
        <c:noMultiLvlLbl val="0"/>
      </c:catAx>
      <c:valAx>
        <c:axId val="83461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61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C60-3DD1-4FAD-AAE4-0ED52B0E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60E-15AC-4E0A-A1A6-9B813A20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925-52D9-4FCB-9407-23EF42D0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032-145D-48F2-BADE-C242E5D8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DD6-915F-4770-9C63-6CBA8D0B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939-E9A3-4E32-8709-CAF9762B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523-0351-473D-9905-D8835C67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D19-F6B5-405C-B060-3D5C3C51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2C1-A497-4CCA-9554-D88E6D87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245-CA89-4C97-A743-42D93F2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BC9-5062-4E19-AE42-FBF961BC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483-2AA3-4909-9B09-A359F42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377F0-619F-4742-A711-6F4B7B286E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