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82023"/>
        <c:axId val="28134618"/>
      </c:barChart>
      <c:catAx>
        <c:axId val="52820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34618"/>
        <c:crosses val="autoZero"/>
        <c:auto val="1"/>
        <c:lblAlgn val="ctr"/>
        <c:lblOffset val="100"/>
        <c:noMultiLvlLbl val="0"/>
      </c:catAx>
      <c:valAx>
        <c:axId val="281346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20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4026-406A-4F1C-BF6A-BB7096F1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206E-83BF-4459-B93E-CD6A0ABE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6BBD-0935-460F-A222-4B6B7CAE7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060E-C17B-4B33-8404-7E8B586B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AE81-0D9A-467B-9DBA-E67CD986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DFC7-46C4-47C8-AA8A-CEFBF2D4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099F-F0E7-41F4-AEA8-31C32702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C676-0937-49FD-B5B3-39B0DED6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DE8D-770C-48BB-922A-65322582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B71D-8966-4435-96B1-A4F93A2B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C29B-479B-4BF9-B818-1FD2C744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92B6-5252-4EDF-8419-06861E74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E25E7-73FE-4B2C-8CC2-48AB704002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