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14012"/>
        <c:axId val="61021760"/>
      </c:barChart>
      <c:catAx>
        <c:axId val="93214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21760"/>
        <c:crosses val="autoZero"/>
        <c:auto val="1"/>
        <c:lblAlgn val="ctr"/>
        <c:lblOffset val="100"/>
        <c:noMultiLvlLbl val="0"/>
      </c:catAx>
      <c:valAx>
        <c:axId val="6102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4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7EF-C91E-44D0-AEC1-846FDA4E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66A-FDD3-49B6-B787-55CAF2B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7DA-40E0-4558-8BD6-896FD4CC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586-B41A-49C3-AEDA-CEFF68B1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41C-F2BD-436A-91CF-CA243D11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89E-8F41-4BDB-883F-1F77D2C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4B6-46FE-4DE7-AD7B-C97E447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068-3B44-4155-B31F-CA43B986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D1E-408A-4426-B9C8-1A51EC9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AAD-8EE7-4CB0-8294-4E2E098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5C3-A9C6-401D-96C5-210722F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1A8-79B6-44D6-834D-2FA56BD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1E768-352B-4412-85A8-139E0FBB0F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