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33144"/>
        <c:axId val="90073568"/>
      </c:barChart>
      <c:catAx>
        <c:axId val="77633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73568"/>
        <c:crosses val="autoZero"/>
        <c:auto val="1"/>
        <c:lblAlgn val="ctr"/>
        <c:lblOffset val="100"/>
        <c:noMultiLvlLbl val="0"/>
      </c:catAx>
      <c:valAx>
        <c:axId val="90073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33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DCF-9FD3-4B7A-8515-257BBAC7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7B1-82DD-4CF7-A2B2-06F73C6F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722-04C0-4409-8E5B-0F012F71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655-AD3D-4B67-A714-41FDA4EF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CDF-3814-4F2C-B7DC-6B820467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704-5567-493A-BB3C-0665A376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E6E-4BAA-4A70-A0E0-A9CCAA61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148-1769-4813-89DD-69777B1B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4D1-D1DC-437F-9096-DAAE9486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C2C-FC63-42DF-B15F-12663A24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29A-8B2C-4364-88C1-EF2B272A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47D-8983-4C33-BC7E-7226C1DF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A8A4F-9681-4399-9E46-A06A2F29FC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