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77454"/>
        <c:axId val="55821434"/>
      </c:barChart>
      <c:catAx>
        <c:axId val="48977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1434"/>
        <c:crosses val="autoZero"/>
        <c:auto val="1"/>
        <c:lblAlgn val="ctr"/>
        <c:lblOffset val="100"/>
        <c:noMultiLvlLbl val="0"/>
      </c:catAx>
      <c:valAx>
        <c:axId val="55821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7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7D9-8CFF-46E3-88AD-C3B09D11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0FF-9575-47F2-800A-14909F17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EB-8235-4283-B480-AE8BC6F9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381-C13D-4CCD-8BCA-3A28C972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FCD-47CA-41E7-BD01-A9A02F1D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E53-9523-4DE7-AA80-80578A9A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788-F695-490B-9E05-7797BD36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C99-3475-4370-AA91-ECF16225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98F-D3BF-4553-BA96-4CE0EB0E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B54-6470-4F05-8738-2211AFA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4C2-D0DB-41AC-B9F4-028EB4D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E48-9CC4-4D8A-8583-A305368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C1E6-177F-4635-B6D1-2192E331CE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