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14987"/>
        <c:axId val="23367137"/>
      </c:barChart>
      <c:catAx>
        <c:axId val="22314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67137"/>
        <c:crosses val="autoZero"/>
        <c:auto val="1"/>
        <c:lblAlgn val="ctr"/>
        <c:lblOffset val="100"/>
        <c:noMultiLvlLbl val="0"/>
      </c:catAx>
      <c:valAx>
        <c:axId val="23367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14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C1D-2542-4203-A465-44A98EE2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A73-73B4-4D82-A6FB-3C3E781A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28E-3114-469C-B20A-11996754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2FC-55AC-406B-89CE-7BD2080D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1A2-7E7E-4EC9-AF28-63A0302A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740-7841-4874-A5DA-5749B49B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334-C6F7-4C60-B09E-AB786BCF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F2C-587D-4947-887C-5C59B110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C6F-E390-40A5-BEFA-0D17135F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FC0-761B-4DF3-9CA4-19AA36DE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C0F-A79F-4BB4-BD78-F7E19DCB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E28-4192-42D5-9FCB-67FE2711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A3C60-A11F-4046-BD43-D6300FE697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