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02084"/>
        <c:axId val="9013459"/>
      </c:barChart>
      <c:catAx>
        <c:axId val="71702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3459"/>
        <c:crosses val="autoZero"/>
        <c:auto val="1"/>
        <c:lblAlgn val="ctr"/>
        <c:lblOffset val="100"/>
        <c:noMultiLvlLbl val="0"/>
      </c:catAx>
      <c:valAx>
        <c:axId val="9013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02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B72-A21E-4D18-9AE9-D0C70149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5A1-E6B7-44EA-A45E-D95F94CE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04D-0A5E-4C7D-9775-852C5257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C70-DF84-4C49-B999-4395305C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A77-11E5-40B3-81FE-24357035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A3B-2A41-479A-94C2-CD98466E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FE0-1D4C-478B-94DE-75775BA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F42-14C7-4FBC-A67D-780A815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C13-55B4-4003-8540-CFC17BFD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BAD-7B04-45C1-A668-E6A31EA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84F-BDE4-477C-AE1A-405E9639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5C0-D023-4882-8E20-5BFF8DBE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2CEF1-9A01-48B4-89BC-CF31562A4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