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24671"/>
        <c:axId val="21841811"/>
      </c:barChart>
      <c:catAx>
        <c:axId val="14124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1811"/>
        <c:crosses val="autoZero"/>
        <c:auto val="1"/>
        <c:lblAlgn val="ctr"/>
        <c:lblOffset val="100"/>
        <c:noMultiLvlLbl val="0"/>
      </c:catAx>
      <c:valAx>
        <c:axId val="21841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4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C04-A98B-41B4-B951-66866CFB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7A6-5033-4380-AC2A-D8CA8BE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936-6351-4106-B23E-2C65E1D3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BAF-79E2-44F1-912A-4954D68B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6ED-0114-4637-95F0-6D5B0B78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568-39E7-4CA4-ADD2-856892C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AC6-9C3C-4CE4-B5E9-65E400E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619-C5E1-4019-A0E1-8B24F380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03B-302E-4671-8670-4D2D979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1FF-C0E0-47DB-BCA1-7C66B10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A13-4534-4F69-BA12-FA7D634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B37-55E7-4EC8-AD5B-967DF9EC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96196-7762-4D29-93AE-33659DA21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