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98949"/>
        <c:axId val="74876754"/>
      </c:barChart>
      <c:catAx>
        <c:axId val="40198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76754"/>
        <c:crosses val="autoZero"/>
        <c:auto val="1"/>
        <c:lblAlgn val="ctr"/>
        <c:lblOffset val="100"/>
        <c:noMultiLvlLbl val="0"/>
      </c:catAx>
      <c:valAx>
        <c:axId val="74876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98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AE6-CEA6-4D99-92C8-C1860418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155-66C5-4E36-94E7-734F58CA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623-DE4F-45FA-B041-2ED23936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D71-6F82-4184-8083-AC752891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154-EB7D-491C-B6BC-4F50FA45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6D4-F253-4880-BA6B-990024ED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610-3B11-4F26-9DBC-5ECE8A15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A91-CB72-4292-BEFE-9B437C72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A99-695C-4494-A4E5-7BDF0AD6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627-7E0F-4371-8962-CF109A38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416-8B72-45B7-875B-9B47E861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049-7D2D-4887-AC44-8F5051E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0AA0D-A3F4-40DF-A8DB-5F81ED3DA1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