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74054"/>
        <c:axId val="4137631"/>
      </c:barChart>
      <c:catAx>
        <c:axId val="86574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631"/>
        <c:crosses val="autoZero"/>
        <c:auto val="1"/>
        <c:lblAlgn val="ctr"/>
        <c:lblOffset val="100"/>
        <c:noMultiLvlLbl val="0"/>
      </c:catAx>
      <c:valAx>
        <c:axId val="4137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74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37F-3537-41A1-B1D0-2E2CC172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DB9-6CF1-4330-A50D-79C67C4B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207-7EFD-4A34-807B-FBE6179D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842-FDAD-4936-88E7-33038BE0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EEB-34D2-4689-AC67-F4487D7D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022-5E6E-43CA-BDA6-B3ACEDB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03E-5CA7-453C-AC56-E219B26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C6F-F672-46FE-91D3-FC19330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F39-29C5-4A7C-8A0F-958074D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3AD-35A1-43E6-9B2C-B644357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CB5-831E-443D-910A-7C1FBC05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542-AF76-4B19-B663-2EC14AA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800A-7CA8-4E74-B068-F0EEDBD902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