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15734"/>
        <c:axId val="71677072"/>
      </c:barChart>
      <c:catAx>
        <c:axId val="83515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77072"/>
        <c:crosses val="autoZero"/>
        <c:auto val="1"/>
        <c:lblAlgn val="ctr"/>
        <c:lblOffset val="100"/>
        <c:noMultiLvlLbl val="0"/>
      </c:catAx>
      <c:valAx>
        <c:axId val="71677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15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408-4A14-45C2-8B57-B68C0EF7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17B-2E1D-4C35-8675-F6C8744D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A5D-E1E0-4549-A06C-F6E960D5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4EE-4F31-42EB-83CF-F40DFED0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424-EFE5-4D84-A05A-18A5E37A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A36-B8C7-4851-B5A6-024F5E76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BCC-82AE-4FD1-864F-EE89978E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9A3-F4D3-4161-942E-33F2947E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357-4C85-4D82-8A2F-F286049D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6A4-8EA3-4FCB-A6EA-ADAE8D4B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1CD-7747-4259-8B82-21B50F5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C30-5438-48D9-88A5-003524CE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02E6E-31B7-42DE-BFC9-E45E620EDB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