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262"/>
        <c:axId val="19585062"/>
      </c:barChart>
      <c:catAx>
        <c:axId val="566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85062"/>
        <c:crosses val="autoZero"/>
        <c:auto val="1"/>
        <c:lblAlgn val="ctr"/>
        <c:lblOffset val="100"/>
        <c:noMultiLvlLbl val="0"/>
      </c:catAx>
      <c:valAx>
        <c:axId val="19585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813-FB73-4312-9677-3743E7E1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E07-BE42-4216-9E9C-0C2F9360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75D-A296-4E7A-AEAC-C7AD5587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61E-0D58-40C7-A1FD-BA3128A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66B-2991-48D6-9238-AD09116B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A47-2B47-4A4C-998B-E225F53A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9B8-7AD6-48E2-B89E-A366593C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685-39F0-440B-AD7A-D9923932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42C-ED9B-4A20-B6BC-93C9B33E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4FE-8C55-4E50-839B-C9EBE45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172-B906-41C5-A186-683EE25B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C7E-144E-4980-808F-4255A5CE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44D32-EA04-4654-A052-FAFACA5103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